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38.png" ContentType="image/png"/>
  <Override PartName="/ppt/media/image8.png" ContentType="image/png"/>
  <Override PartName="/ppt/media/image3.png" ContentType="image/png"/>
  <Override PartName="/ppt/media/image33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40F3-2CC5-4778-A441-F48E80816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7A22-2552-4B0C-B4B6-18044F28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6A4D-8623-43CE-8789-DEBE247EA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4B7C-D8FF-41A8-B7A3-7B08E52DD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D934-4694-4755-81F5-C3775D1B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084E-EA5B-41DE-A998-A1DC34ED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6267-156F-49FA-8B90-1C99ED14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ACA6-061B-4138-86F1-6286594B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3579-6F40-4B25-9A5C-EA879969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C142-CA10-44BF-85E9-D4E5BC68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B124-1864-4942-8568-13EDCD53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8A77-0E6F-492E-9617-3C5B032D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7599-A888-49A4-985E-DBB5D3B9B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aptop"/>
          <p:cNvSpPr/>
          <p:nvPr/>
        </p:nvSpPr>
        <p:spPr>
          <a:xfrm>
            <a:off x="2743200" y="228600"/>
            <a:ext cx="5334120" cy="46483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365760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nimal Alphabet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Vid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920" y="54097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imal Alphabet. Discovery Channel School. 2005. unitedstreaming. 24 January 2006 http://www.unitedstreaming.com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honics in Context: ABC Animals. United Learning. 1997. unitedstreaming. 24 January 2006 http://www.unitedstreaming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7848720" y="2057400"/>
            <a:ext cx="1143000" cy="1066680"/>
          </a:xfrm>
          <a:custGeom>
            <a:avLst/>
            <a:gdLst>
              <a:gd name="textAreaLeft" fmla="*/ 69120 w 1143000"/>
              <a:gd name="textAreaRight" fmla="*/ 1073880 w 11430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3145" h="21600">
                <a:moveTo>
                  <a:pt x="0" y="0"/>
                </a:moveTo>
                <a:lnTo>
                  <a:pt x="23145" y="0"/>
                </a:lnTo>
                <a:lnTo>
                  <a:pt x="23145" y="21600"/>
                </a:lnTo>
                <a:lnTo>
                  <a:pt x="0" y="21600"/>
                </a:lnTo>
                <a:close/>
              </a:path>
              <a:path fill="lightenLess" w="23145" h="21600">
                <a:moveTo>
                  <a:pt x="0" y="0"/>
                </a:moveTo>
                <a:lnTo>
                  <a:pt x="23145" y="0"/>
                </a:lnTo>
                <a:lnTo>
                  <a:pt x="21745" y="1400"/>
                </a:lnTo>
                <a:lnTo>
                  <a:pt x="1400" y="1400"/>
                </a:lnTo>
                <a:close/>
              </a:path>
              <a:path fill="darken" w="23145" h="21600">
                <a:moveTo>
                  <a:pt x="23145" y="0"/>
                </a:moveTo>
                <a:lnTo>
                  <a:pt x="23145" y="21600"/>
                </a:lnTo>
                <a:lnTo>
                  <a:pt x="21745" y="20200"/>
                </a:lnTo>
                <a:lnTo>
                  <a:pt x="21745" y="1400"/>
                </a:lnTo>
                <a:close/>
              </a:path>
              <a:path fill="darkenLess" w="23145" h="21600">
                <a:moveTo>
                  <a:pt x="23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45" y="20200"/>
                </a:lnTo>
                <a:close/>
              </a:path>
              <a:path fill="lighten" w="23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45" h="21600">
                <a:moveTo>
                  <a:pt x="4566" y="3794"/>
                </a:moveTo>
                <a:lnTo>
                  <a:pt x="18579" y="10800"/>
                </a:lnTo>
                <a:lnTo>
                  <a:pt x="45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733920" y="555480"/>
            <a:ext cx="342900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562720" y="533520"/>
            <a:ext cx="259056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Comic Sans MS"/>
              </a:rPr>
              <a:t>Ii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191120" y="3481560"/>
            <a:ext cx="4952880" cy="3376440"/>
          </a:xfrm>
          <a:prstGeom prst="rect">
            <a:avLst/>
          </a:prstGeom>
          <a:ln w="0">
            <a:noFill/>
          </a:ln>
        </p:spPr>
      </p:pic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1371600" y="472428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4514" y="3794"/>
                </a:moveTo>
                <a:lnTo>
                  <a:pt x="18527" y="10800"/>
                </a:lnTo>
                <a:lnTo>
                  <a:pt x="45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4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9" dur="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562720" y="533520"/>
            <a:ext cx="259056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Comic Sans MS"/>
              </a:rPr>
              <a:t>Jj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3486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114800" y="3429000"/>
            <a:ext cx="5029200" cy="3429000"/>
          </a:xfrm>
          <a:prstGeom prst="rect">
            <a:avLst/>
          </a:prstGeom>
          <a:ln w="0">
            <a:noFill/>
          </a:ln>
        </p:spPr>
      </p:pic>
      <p:sp>
        <p:nvSpPr>
          <p:cNvPr id="85" name="">
            <a:hlinkClick r:id="" action="ppaction://hlinkshowjump?jump=nextslide"/>
          </p:cNvPr>
          <p:cNvSpPr/>
          <p:nvPr/>
        </p:nvSpPr>
        <p:spPr>
          <a:xfrm>
            <a:off x="1371600" y="472428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4514" y="3794"/>
                </a:moveTo>
                <a:lnTo>
                  <a:pt x="18527" y="10800"/>
                </a:lnTo>
                <a:lnTo>
                  <a:pt x="45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5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0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562720" y="533520"/>
            <a:ext cx="259056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Comic Sans MS"/>
              </a:rPr>
              <a:t>Kk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038480" y="3376440"/>
            <a:ext cx="5105520" cy="3481560"/>
          </a:xfrm>
          <a:prstGeom prst="rect">
            <a:avLst/>
          </a:prstGeom>
          <a:ln w="0">
            <a:noFill/>
          </a:ln>
        </p:spPr>
      </p:pic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1371600" y="472428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4514" y="3794"/>
                </a:moveTo>
                <a:lnTo>
                  <a:pt x="18527" y="10800"/>
                </a:lnTo>
                <a:lnTo>
                  <a:pt x="45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1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562720" y="533520"/>
            <a:ext cx="259056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Comic Sans MS"/>
              </a:rPr>
              <a:t>Ll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3486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114800" y="3429000"/>
            <a:ext cx="5029200" cy="3429000"/>
          </a:xfrm>
          <a:prstGeom prst="rect">
            <a:avLst/>
          </a:prstGeom>
          <a:ln w="0">
            <a:noFill/>
          </a:ln>
        </p:spPr>
      </p:pic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1371600" y="472428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4514" y="3794"/>
                </a:moveTo>
                <a:lnTo>
                  <a:pt x="18527" y="10800"/>
                </a:lnTo>
                <a:lnTo>
                  <a:pt x="45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7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2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562720" y="533520"/>
            <a:ext cx="304776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3543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343400" y="3481560"/>
            <a:ext cx="4952880" cy="3376440"/>
          </a:xfrm>
          <a:prstGeom prst="rect">
            <a:avLst/>
          </a:prstGeom>
          <a:ln w="0">
            <a:noFill/>
          </a:ln>
        </p:spPr>
      </p:pic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1371600" y="472428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4514" y="3794"/>
                </a:moveTo>
                <a:lnTo>
                  <a:pt x="18527" y="10800"/>
                </a:lnTo>
                <a:lnTo>
                  <a:pt x="45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8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3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562720" y="533520"/>
            <a:ext cx="259056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Comic Sans MS"/>
              </a:rPr>
              <a:t>Nn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114800" y="3429000"/>
            <a:ext cx="5029200" cy="342900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1371600" y="472428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4514" y="3794"/>
                </a:moveTo>
                <a:lnTo>
                  <a:pt x="18527" y="10800"/>
                </a:lnTo>
                <a:lnTo>
                  <a:pt x="45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9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4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562720" y="533520"/>
            <a:ext cx="259056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Comic Sans MS"/>
              </a:rPr>
              <a:t>Oo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267080" y="3532320"/>
            <a:ext cx="4876920" cy="3325680"/>
          </a:xfrm>
          <a:prstGeom prst="rect">
            <a:avLst/>
          </a:prstGeom>
          <a:ln w="0">
            <a:noFill/>
          </a:ln>
        </p:spPr>
      </p:pic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1371600" y="472428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4514" y="3794"/>
                </a:moveTo>
                <a:lnTo>
                  <a:pt x="18527" y="10800"/>
                </a:lnTo>
                <a:lnTo>
                  <a:pt x="45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0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5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562720" y="533520"/>
            <a:ext cx="259056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Comic Sans MS"/>
              </a:rPr>
              <a:t>Pp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3486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114800" y="3429000"/>
            <a:ext cx="5029200" cy="3429000"/>
          </a:xfrm>
          <a:prstGeom prst="rect">
            <a:avLst/>
          </a:prstGeom>
          <a:ln w="0">
            <a:noFill/>
          </a:ln>
        </p:spPr>
      </p:pic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1371600" y="472428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4514" y="3794"/>
                </a:moveTo>
                <a:lnTo>
                  <a:pt x="18527" y="10800"/>
                </a:lnTo>
                <a:lnTo>
                  <a:pt x="45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1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6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562720" y="533520"/>
            <a:ext cx="259056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Comic Sans MS"/>
              </a:rPr>
              <a:t>Qq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114800" y="3429000"/>
            <a:ext cx="5029200" cy="3429000"/>
          </a:xfrm>
          <a:prstGeom prst="rect">
            <a:avLst/>
          </a:prstGeom>
          <a:ln w="0">
            <a:noFill/>
          </a:ln>
        </p:spPr>
      </p:pic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1371600" y="472428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4514" y="3794"/>
                </a:moveTo>
                <a:lnTo>
                  <a:pt x="18527" y="10800"/>
                </a:lnTo>
                <a:lnTo>
                  <a:pt x="45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7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562720" y="533520"/>
            <a:ext cx="259056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Comic Sans MS"/>
              </a:rPr>
              <a:t>Rr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3486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038480" y="3376440"/>
            <a:ext cx="5105520" cy="3481560"/>
          </a:xfrm>
          <a:prstGeom prst="rect">
            <a:avLst/>
          </a:prstGeom>
          <a:ln w="0">
            <a:noFill/>
          </a:ln>
        </p:spPr>
      </p:pic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1371600" y="472428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4514" y="3794"/>
                </a:moveTo>
                <a:lnTo>
                  <a:pt x="18527" y="10800"/>
                </a:lnTo>
                <a:lnTo>
                  <a:pt x="45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3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8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3543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267080" y="3532320"/>
            <a:ext cx="4876920" cy="3325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562720" y="533520"/>
            <a:ext cx="259056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Comic Sans MS"/>
              </a:rPr>
              <a:t>Aa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1371600" y="472428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4514" y="3794"/>
                </a:moveTo>
                <a:lnTo>
                  <a:pt x="18527" y="10800"/>
                </a:lnTo>
                <a:lnTo>
                  <a:pt x="45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562720" y="533520"/>
            <a:ext cx="259056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Comic Sans MS"/>
              </a:rPr>
              <a:t>Ss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038480" y="3376440"/>
            <a:ext cx="5105520" cy="3481560"/>
          </a:xfrm>
          <a:prstGeom prst="rect">
            <a:avLst/>
          </a:prstGeom>
          <a:ln w="0">
            <a:noFill/>
          </a:ln>
        </p:spPr>
      </p:pic>
      <p:sp>
        <p:nvSpPr>
          <p:cNvPr id="121" name="">
            <a:hlinkClick r:id="" action="ppaction://hlinkshowjump?jump=nextslide"/>
          </p:cNvPr>
          <p:cNvSpPr/>
          <p:nvPr/>
        </p:nvSpPr>
        <p:spPr>
          <a:xfrm>
            <a:off x="1371600" y="472428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4514" y="3794"/>
                </a:moveTo>
                <a:lnTo>
                  <a:pt x="18527" y="10800"/>
                </a:lnTo>
                <a:lnTo>
                  <a:pt x="45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4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9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562720" y="533520"/>
            <a:ext cx="259056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038480" y="3376440"/>
            <a:ext cx="5105520" cy="3481560"/>
          </a:xfrm>
          <a:prstGeom prst="rect">
            <a:avLst/>
          </a:prstGeom>
          <a:ln w="0">
            <a:noFill/>
          </a:ln>
        </p:spPr>
      </p:pic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1371600" y="472428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4514" y="3794"/>
                </a:moveTo>
                <a:lnTo>
                  <a:pt x="18527" y="10800"/>
                </a:lnTo>
                <a:lnTo>
                  <a:pt x="45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5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0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562720" y="533520"/>
            <a:ext cx="259056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Comic Sans MS"/>
              </a:rPr>
              <a:t>Uu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114800" y="3429000"/>
            <a:ext cx="5029200" cy="342900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1371600" y="472428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4514" y="3794"/>
                </a:moveTo>
                <a:lnTo>
                  <a:pt x="18527" y="10800"/>
                </a:lnTo>
                <a:lnTo>
                  <a:pt x="45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6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1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562720" y="533520"/>
            <a:ext cx="259056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Comic Sans MS"/>
              </a:rPr>
              <a:t>Vv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3486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114800" y="3429000"/>
            <a:ext cx="5029200" cy="3429000"/>
          </a:xfrm>
          <a:prstGeom prst="rect">
            <a:avLst/>
          </a:prstGeom>
          <a:ln w="0">
            <a:noFill/>
          </a:ln>
        </p:spPr>
      </p:pic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1371600" y="472428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4514" y="3794"/>
                </a:moveTo>
                <a:lnTo>
                  <a:pt x="18527" y="10800"/>
                </a:lnTo>
                <a:lnTo>
                  <a:pt x="45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7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2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562720" y="533520"/>
            <a:ext cx="259056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Comic Sans MS"/>
              </a:rPr>
              <a:t>Xx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3486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114800" y="3429000"/>
            <a:ext cx="5029200" cy="3429000"/>
          </a:xfrm>
          <a:prstGeom prst="rect">
            <a:avLst/>
          </a:prstGeom>
          <a:ln w="0">
            <a:noFill/>
          </a:ln>
        </p:spPr>
      </p:pic>
      <p:sp>
        <p:nvSpPr>
          <p:cNvPr id="137" name="">
            <a:hlinkClick r:id="" action="ppaction://hlinkshowjump?jump=nextslide"/>
          </p:cNvPr>
          <p:cNvSpPr/>
          <p:nvPr/>
        </p:nvSpPr>
        <p:spPr>
          <a:xfrm>
            <a:off x="1371600" y="472428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4514" y="3794"/>
                </a:moveTo>
                <a:lnTo>
                  <a:pt x="18527" y="10800"/>
                </a:lnTo>
                <a:lnTo>
                  <a:pt x="45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8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3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562720" y="533520"/>
            <a:ext cx="259056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Comic Sans MS"/>
              </a:rPr>
              <a:t>Yy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343400" y="3584520"/>
            <a:ext cx="4800600" cy="3273480"/>
          </a:xfrm>
          <a:prstGeom prst="rect">
            <a:avLst/>
          </a:prstGeom>
          <a:ln w="0">
            <a:noFill/>
          </a:ln>
        </p:spPr>
      </p:pic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1371600" y="472428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4514" y="3794"/>
                </a:moveTo>
                <a:lnTo>
                  <a:pt x="18527" y="10800"/>
                </a:lnTo>
                <a:lnTo>
                  <a:pt x="45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9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4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562720" y="533520"/>
            <a:ext cx="259056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Comic Sans MS"/>
              </a:rPr>
              <a:t>Zz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35434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191120" y="3481560"/>
            <a:ext cx="4952880" cy="3376440"/>
          </a:xfrm>
          <a:prstGeom prst="rect">
            <a:avLst/>
          </a:prstGeom>
          <a:ln w="0">
            <a:noFill/>
          </a:ln>
        </p:spPr>
      </p:pic>
      <p:sp>
        <p:nvSpPr>
          <p:cNvPr id="145" name="">
            <a:hlinkClick r:id="" action="ppaction://hlinkshowjump?jump=endshow"/>
          </p:cNvPr>
          <p:cNvSpPr/>
          <p:nvPr/>
        </p:nvSpPr>
        <p:spPr>
          <a:xfrm>
            <a:off x="1371600" y="472428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4514" y="3794"/>
                </a:moveTo>
                <a:lnTo>
                  <a:pt x="18527" y="10800"/>
                </a:lnTo>
                <a:lnTo>
                  <a:pt x="45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0" dur="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72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5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562720" y="533520"/>
            <a:ext cx="259056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Comic Sans MS"/>
              </a:rPr>
              <a:t>Bb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3543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267080" y="3532320"/>
            <a:ext cx="4876920" cy="332568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1371600" y="472428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4514" y="3794"/>
                </a:moveTo>
                <a:lnTo>
                  <a:pt x="18527" y="10800"/>
                </a:lnTo>
                <a:lnTo>
                  <a:pt x="45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562720" y="533520"/>
            <a:ext cx="259056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Comic Sans MS"/>
              </a:rPr>
              <a:t>Cc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3543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267080" y="3532320"/>
            <a:ext cx="4876920" cy="3325680"/>
          </a:xfrm>
          <a:prstGeom prst="rect">
            <a:avLst/>
          </a:prstGeom>
          <a:ln w="0">
            <a:noFill/>
          </a:ln>
        </p:spPr>
      </p:pic>
      <p:sp>
        <p:nvSpPr>
          <p:cNvPr id="57" name="">
            <a:hlinkClick r:id="" action="ppaction://hlinkshowjump?jump=nextslide"/>
          </p:cNvPr>
          <p:cNvSpPr/>
          <p:nvPr/>
        </p:nvSpPr>
        <p:spPr>
          <a:xfrm>
            <a:off x="1371600" y="472428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4514" y="3794"/>
                </a:moveTo>
                <a:lnTo>
                  <a:pt x="18527" y="10800"/>
                </a:lnTo>
                <a:lnTo>
                  <a:pt x="45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562720" y="533520"/>
            <a:ext cx="259056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Comic Sans MS"/>
              </a:rPr>
              <a:t>Dd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3486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114800" y="3429000"/>
            <a:ext cx="5029200" cy="3429000"/>
          </a:xfrm>
          <a:prstGeom prst="rect">
            <a:avLst/>
          </a:prstGeom>
          <a:ln w="0">
            <a:noFill/>
          </a:ln>
        </p:spPr>
      </p:pic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1371600" y="472428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4514" y="3794"/>
                </a:moveTo>
                <a:lnTo>
                  <a:pt x="18527" y="10800"/>
                </a:lnTo>
                <a:lnTo>
                  <a:pt x="45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562720" y="533520"/>
            <a:ext cx="259056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Comic Sans MS"/>
              </a:rPr>
              <a:t>Ee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3543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267080" y="3532320"/>
            <a:ext cx="4876920" cy="3325680"/>
          </a:xfrm>
          <a:prstGeom prst="rect">
            <a:avLst/>
          </a:prstGeom>
          <a:ln w="0">
            <a:noFill/>
          </a:ln>
        </p:spPr>
      </p:pic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1371600" y="472428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4514" y="3794"/>
                </a:moveTo>
                <a:lnTo>
                  <a:pt x="18527" y="10800"/>
                </a:lnTo>
                <a:lnTo>
                  <a:pt x="45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562720" y="533520"/>
            <a:ext cx="259056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Comic Sans MS"/>
              </a:rPr>
              <a:t>Ff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3486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114800" y="3429000"/>
            <a:ext cx="5029200" cy="342900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1371600" y="472428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4514" y="3794"/>
                </a:moveTo>
                <a:lnTo>
                  <a:pt x="18527" y="10800"/>
                </a:lnTo>
                <a:lnTo>
                  <a:pt x="45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1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562720" y="533520"/>
            <a:ext cx="259056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Comic Sans MS"/>
              </a:rPr>
              <a:t>Gg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3543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114800" y="3429000"/>
            <a:ext cx="5029200" cy="3429000"/>
          </a:xfrm>
          <a:prstGeom prst="rect">
            <a:avLst/>
          </a:prstGeom>
          <a:ln w="0">
            <a:noFill/>
          </a:ln>
        </p:spPr>
      </p:pic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1371600" y="472428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4514" y="3794"/>
                </a:moveTo>
                <a:lnTo>
                  <a:pt x="18527" y="10800"/>
                </a:lnTo>
                <a:lnTo>
                  <a:pt x="45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2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33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562720" y="533520"/>
            <a:ext cx="259056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Comic Sans MS"/>
              </a:rPr>
              <a:t>Hh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962520" y="3402000"/>
            <a:ext cx="5181480" cy="3532320"/>
          </a:xfrm>
          <a:prstGeom prst="rect">
            <a:avLst/>
          </a:prstGeom>
          <a:ln w="0">
            <a:noFill/>
          </a:ln>
        </p:spPr>
      </p:pic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1371600" y="472428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4514" y="3794"/>
                </a:moveTo>
                <a:lnTo>
                  <a:pt x="18527" y="10800"/>
                </a:lnTo>
                <a:lnTo>
                  <a:pt x="45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3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8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0T20:17:22Z</dcterms:created>
  <dc:creator>mweeks</dc:creator>
  <dc:description/>
  <dc:language>en-US</dc:language>
  <cp:lastModifiedBy>Eric Gaumer</cp:lastModifiedBy>
  <dcterms:modified xsi:type="dcterms:W3CDTF">2007-10-25T00:13:40Z</dcterms:modified>
  <cp:revision>14</cp:revision>
  <dc:subject/>
  <dc:title>Alphabet</dc:title>
</cp:coreProperties>
</file>